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335-03C1-44BE-9C19-97B6A7FA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C7D-734C-49B4-9EF3-61036280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B5ECA-031F-4FBD-9357-7C72F9EF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6B75B-3F1D-4FCF-A3DB-BD917080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FF430-3359-426B-99C8-A9C9B5A1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E7C43-B516-4FCD-B804-BB652D50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138EF-F495-4C71-BCDD-3159B45E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C1A75-4439-4BC1-87E8-C5BB9043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E53B6-07F7-4E24-B583-9329DDAC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9B5AF-FCA7-456C-A433-7C99A064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3AF67-333A-48F6-976F-A64EF09B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724C0-8549-4033-8E55-FFD86E3C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1C5-0E12-4ACD-9784-79E5FA62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1D048-502A-479E-A2F2-AD3F37D3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880AB-04A5-4737-8E25-4951FFC1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44D7A-2A13-481B-AE4D-48F40BF7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07FDF-17BB-4670-BBB4-85303BE1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44DA5-CA14-4F3A-A96A-C26F23B2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A7299-6AB6-4BBB-8C1D-2E579FB7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B6DF5-C174-4D38-BB9C-64A6955A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FEEFA-C02A-4367-87AA-EAE56E1D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2C126-FA06-475A-ABB1-A9B82062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7ADE1-9AC5-4563-9E1C-FD08D9C5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CD8-6692-4AFF-8628-1FC39EF9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9CC09-510F-4276-BD3A-E8208C10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FFE49-11E2-48C9-853D-AADB3BB3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09C4E-DDDD-47CF-8085-CA2A04EB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DF9C5-90D6-4A34-9CBE-9B5429AD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C2EE4-5C7F-4B68-94FC-27DF03DD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BAA35-9D7A-4915-B827-4C865ABE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83434-AB0F-4EE7-9182-27CD4DAB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0BC24-F780-4DA0-B929-82A5BB22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063BD-9FF7-4550-AAD6-D23D979D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CAF29-39C2-478B-9E3D-B6A0E6BB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165F-D3D0-4B37-97C4-B30F67E8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0510B-A857-4FB2-9F2F-B5718FFF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7801E-3584-4313-A36C-65B70E3A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1EB1C-A038-48B7-91FD-FFE2D6F0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51991-B9B2-45A6-9314-EABFA72E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5E6E6-34ED-4A11-9859-44D1BDD8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0514C-9407-46CE-9CDB-CB5F35F2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2F66F-6D85-4385-8A23-0C3FF68A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0998D-F99B-428B-AF9A-1A94A02A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5240D-B415-40EE-8F1E-F935A37F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17511-2ED3-498C-BCC0-72B7ADC0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B82C-9C5E-42EE-BE40-1ABDAF06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0B11F-7D71-4D25-8170-FF804192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277A2-9CBB-4DAC-A82F-E93C8365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74861-BA54-4E7A-A9C5-37CA2D59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70F6A-330D-4E5E-9464-E80D6577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AD254-CFE4-4A5A-9306-C3665B96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CE6DB-7C5E-4AE5-A164-FB3C322B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D8856-E611-4324-BC2D-5DB9CCED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C5FFC-FC95-451D-9EDE-09725671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D67D5-7341-4016-B1BF-562502EF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8AB692-E02C-479F-96D6-1C3AF03A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46DF-9C83-483C-ACC8-56D3791D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904B3-9B21-4C1B-972D-9FB4AAD0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97743-AC82-4CB0-969C-1BD503FF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12183-5369-4AA0-ADD9-DD42EF68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3D047-CF71-425C-B46D-5DB1BDD7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5B727-8F01-4924-9095-863AF03D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C2E20-2D81-42E6-984E-908D1BF4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D571B-6282-42DD-B48E-B24B1A7E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61D4F-E05C-4858-9F8B-53C795CA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AB577F-85A0-4E95-83E1-F3756D51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457EB1-816E-461E-8E88-4FD41D1B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0EB3-0B58-4E45-9E43-78AC6F80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E55ED5-D2BD-4CC8-8967-619CE657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7BF8E-25ED-4965-A289-83A118DB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3A19D-6313-43FE-8DB3-00287645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03916-60AB-487C-B066-F9575A2B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AB8F3F-79B8-4871-88BC-A37A8ADA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62743-A728-4BD3-9D90-873A35A3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840C73-5509-4A88-BB09-FF5A297E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F2FF01-7A3C-4084-BFA4-491732E6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666EE-9D23-4E13-AE2E-ABC42134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0978C-D8D5-4BF2-A16D-4F14E647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99DA-7314-4E40-A1FE-594FAB45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D76B3-73ED-4FC3-B05B-178B73E3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FDB12-519F-4EC7-B7CC-189E7E7B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90E43-0122-47BF-BD16-597479CB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081EE-E555-46E4-94F9-3CAA3339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812FBA-E68D-4DC6-8AFE-A473662D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48DA2-E667-42F6-B1AF-4B211D83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67D0F2-DC5F-4114-B3B3-1F69C51D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83588B-0842-474D-9931-56302528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7DA33F-A750-4D36-8068-BC4F42B0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B180A-7152-4248-A958-58596B63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0849-8E02-4428-BC72-451BEE15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0642A-B3E8-44E2-A5EA-A6B42B68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B5C8B-BB33-4D53-8656-1FE6BEE1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30C57-5ACD-4DF1-A7F3-4AD84FDE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FA2E2-6974-4C6F-AFD0-37C97304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5A4022-D77E-4EB9-9C4D-CC524489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4C89FD-B645-4EDF-BC2C-29DDF14E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782047-BC66-4F91-BB07-AB1DFF21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8F6DDB-4CD0-46C5-B67C-F6476AF0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21FD31-EA1A-421F-8819-39703594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4B769-C246-484E-94F7-EF63C507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2601-D2A6-4A3F-9E75-BD3EA84F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A001B-3583-482C-BE92-469F6E6A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D89A02-099F-4DF3-ABDB-0FBCF6E7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41BE8-310E-47BC-8A67-23B8415A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440577-CE3A-427D-805B-EE872DA9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4B1D7A-9F71-4D63-A99D-08C2728B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147C4E-149A-42C2-832F-8361C77C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52F33E-A02A-4992-BEC6-54DA8D2B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3434A-9578-4E9E-B2E0-1E9941CE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812222-E71E-4203-88CF-C21EE497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81AF6A-2BF0-4B06-A09B-38AE7659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7C1-AE6A-465A-8C03-6639F012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96DB-0772-42F0-8D48-96E598C4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04F03A-1802-4A0F-8B23-41B1B856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DC5D1-882C-47DB-AFD4-56B23675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08624C-0FD2-4217-8943-42259A81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F7D66B-AE73-450A-8C9D-0674CCEE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561AC-ECB1-418D-89E1-7A131CBC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5BC53F-E18A-43F6-9C7E-57510453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018671-F179-4722-88DC-89403DC2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987C09-90DA-4FD7-959D-6232C608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036134-B00F-4DE3-BF9D-76252F0A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3A64C7-B4C2-4451-B9D9-FCDDD633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D7D6-9373-4981-8809-E34F04E8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49FD7A-88F4-4D81-9B4A-73812F94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5419B7-F95D-4661-A562-703A0062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AFBCD9-C7F9-439D-B184-986EBD30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D1956B-C460-434A-A020-7020734B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ED14E0-4D1C-4AE6-8022-E677A3D3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C01B0A-3334-4F6A-933A-5946D62E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843F91-9F7C-4B1F-B51D-C1320090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E05346-EB0E-41D2-98F5-08E475BC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BA848D-1C83-4C73-AB3A-604F5B3A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304FFC-2076-4D9A-9CE2-37506719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718C-6990-44F6-840A-986C1B20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DF84D7-59FE-4A5C-89D3-52DB43AA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8B448A-68F2-4231-A7A8-C90C4074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F27BD9-1CCE-4A73-B95E-D00717FD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94E203-CAB9-4210-90D0-7224CBAB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15F5F4-AFD2-446A-91BC-1B0204B5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418F8A-4A34-4109-9B5B-D464E3C4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D88949-09E7-498E-A4FD-96D36845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FA1D08-8E7E-4214-8DC4-5DAD1EC0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479A8B-D951-4E47-BB84-96AC670E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0674EC-EE0A-41B6-AB6D-48852C66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BC42-D40F-4F5F-9B1A-AFD188B8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2819DD-2536-439D-BBA9-57244FD9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9562AC-DAD4-490F-A2A2-D1DCD1D8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85A5E7-6A95-41B0-A8A0-19FA3841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66FB39-1196-4824-A2CA-2918F182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35EC8D-24F7-484F-A70A-433169FC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D0EAAE-7DCC-456B-A392-62C9D6CB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738848-4143-4477-88B5-030E4B80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56CA8A-4B91-4F07-BBB2-6B73271A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EFEF96-8BE8-4A89-8572-0EFEF529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8F0519-F123-41E0-916E-384C5B54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DCDE-13A7-485C-ABF1-533FFC32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7A658C-4973-4B1C-B1FE-31426982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E860B2-CB83-46CF-8773-7AB3F956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EC5F3D-FC27-4E38-9F4A-A14D0608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2C830D-0CC4-4289-8D69-431CDB7D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948DC5-0CDE-41BE-9C12-9A45B69C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668D07-D78F-44E1-9929-389F1033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5CB1C7-58C3-452E-8F52-1D913901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A47258-22CF-47AF-AFEB-CE8128D0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39AC2D-C0B4-46B7-BBF2-40230ADC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F7506C-733F-4545-AF88-60CDB4CB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AB18-3ACA-4EDD-B9AD-D14A3059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DC9EC5-162F-46A5-8A4D-797F2A30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91FC7F-5A53-4F21-96C8-524AEAB4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67DAFF-AC28-4934-AF23-179685E8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423905-6E4A-4A51-BD94-37435A5F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99B806-1F8D-4437-A7CD-A6D2DEB4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65963A-945F-44B4-9D8A-53C04686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E77920-CB2A-46B0-8B0F-CC905E4F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21D66A-982F-4027-8020-9993B861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676EB4-80E4-4FCB-824C-27D2C63D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220464-C2D7-4ED4-85D9-62E6B58F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88682-BE7B-42AD-8B01-00C5E03B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961E3B-E125-4CB9-8353-4D0EAF8C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894559-26D0-4FC4-A5F6-F0DECF3E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0E29DC-DCEF-49A6-9DDE-7DD231D9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237628-2CA3-4F13-851B-A9EE2660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624087-5B71-4D61-9E0A-66445627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8AB8D2-A527-4AF1-B85F-3DF374FF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FDFA3E-0EBB-44A9-B384-C2E7B71B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82D363-35CA-4E67-B8D1-ADB0B3AE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AC3F17-2E48-4910-956E-D6B3779C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F27550-9A8B-4EDF-8E1A-81F2C4CA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E0D76-B35B-42D6-B644-7498C2DD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2F6E40-630E-4700-8E9B-00E964C0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270BF0-040B-4CB8-BB5F-19C449A1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7B3DC3-9446-44BA-84DC-BB25E879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356C33-C5C5-457E-8DBD-71EB1B2C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DC7172-2BEE-434D-92FE-0B0C92AB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ABEA6D-D0A6-43B0-97A2-3E51C053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222F2F-068E-4320-A6B6-219A114F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934AD-55F7-486B-8C2E-E6C0DF1B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898AC-82C4-49C7-BB5B-0676446D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9C5-64BE-45A7-AC53-C282E172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9A492-EBC4-4F39-8D1B-A4FCFFB6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5877D-29AA-4BAA-9C54-8103D61A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B385A-6941-4296-8CB4-37892C3F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BEC9A-2013-4EB4-B534-73E1564D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781F8-BBC0-4831-9172-69736B99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92286-4129-4746-9ED0-7B41C3D6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61DA9-E318-4551-9630-ABA06220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1AAB-A927-4F0A-8E52-315843E6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162CD-2561-4080-B1ED-97010177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7C65D-3599-461A-BE6A-37137B03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EA5-77E2-4611-AED4-7587FD51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8BBB6-4FDC-43B2-95DD-7CDDFA50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5EED1-7ECD-4726-B6AF-6F2263E3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CEE3E-439F-4229-A967-46FBED83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05EFB-F5D4-498D-BD6B-3457D300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49D17-1A83-4A62-8B99-8DF5C15F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39C96-2D9C-46E1-8838-0B83C076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5FF0B-37F7-475C-B5CC-6FAF02FD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D7CC4-DB56-4F2B-8E2B-781A6739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7D582-8D7A-4176-8B3D-61C7BC9F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7C530-2DA0-48D0-B14D-BFAA0162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6A6-B280-42D4-9B7C-1969A5BB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29360-BADE-47D7-B865-9D05D89F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720C1-2BC0-46B9-A5F3-58BF10AA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9EC55-8AF3-48F2-A44B-A74D36B9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226EC-B98C-4676-AE52-D7476BDE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83161-C78B-4B33-B088-4FCD4BB1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6A86A-61B3-4DF9-A8F3-91247CCC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D2AE7-F07E-4877-BB02-DB9F3CB7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F9157-B66A-49EA-8F79-02E015A4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76FEC-4436-434F-9B26-BADF6E60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7105F-D05A-418B-9077-DB389962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C42-F836-4A2E-8D65-E947410A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E4259-5BB2-43E6-924F-93429BB5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A597C-8664-4485-ADDC-F0371FD4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BD684-CD07-472C-BB40-451E3701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3C43F-8901-42B9-BD9C-63E1BA58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9BA45-4A0B-4A70-A3D3-EF1AEDDB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D6E00-3293-4C35-BDCD-864A1538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91BF0-E5C5-4488-919D-91878F67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51515-195D-424A-B2C7-158A0F0C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D4333-C121-46FE-B70A-AEA84C66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3B8AA-F283-4A5E-AE8C-9889D495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4D4-C044-411A-BCDE-C7265A89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BCD0B-EFD3-494A-A8BA-73EA48A6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EEF70-FF11-4D9B-8388-C33CBEDB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EF194-2B86-41D6-80CC-2BDBD6DD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00801-6815-4EFB-908E-D7632BB0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17643-17E8-42A1-9CF5-534AF9C8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20A7F-3611-4187-A59E-DF312F9C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290B5-D6C9-4DAD-9468-AB2C6032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64E41-1026-48FD-90D8-CC70B5DE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7A3FD-86D4-47F7-A3AD-63D6EF48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3F42D-62A6-4647-8385-AC192F72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7B9-0938-4DF7-958E-F336EA30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3658F-0314-46CC-8E1C-648DE54F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ADFFD-C3FB-44AE-800E-55BA4DA9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433F5-5F3B-416E-AC48-64F9B553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2F60F-C457-4FA5-B580-7120F911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144EE-8D10-4104-AEE2-AD201727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19115-1E30-4292-974B-B49C914E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8AA89-EE20-4AFD-B5D6-EB217E47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5CA13-FE85-4E61-8689-88C2AE0F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7F16E-F7CD-43E2-9C3B-BC3E7C8E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F73B8-FBC8-4609-9250-B982D7FB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E95-A475-4EE3-AA2C-184158FA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F6D53-CC49-4A7E-8B78-556D4363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02DC4-8C83-4E87-BF4A-9F6A5D84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F0C71-8EBB-4639-8EDB-6EC24B48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22062-D397-4029-A41C-AD700778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10645-6735-402C-98C9-32AF42E6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75F2F-61DF-42F5-A1D3-0383766A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614F7-F9E6-4D60-B92F-1C7CD95C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5E68E-3AB3-40E5-A2EC-6C30FCF0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49F61-A1DB-4075-971A-CE57583C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80DF2-02BF-4B8C-9668-94F9473B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0359-A292-41EF-9CB3-6C1DC88082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9CDF-D79A-4A13-BDF3-05DE60062A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2F53-3833-4AC2-9697-062DE94727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2F85-BC72-4FA4-AD4B-0113923129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DEF7-35E8-4C0F-BE55-53F71677FC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6AB3-DACE-41B8-A0FD-C5722EA4C8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CB86-BF66-4548-8043-54852FEF58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2289-3484-4BDF-A482-3A3C24EDB4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C44F-D4BA-420D-85A8-88463D4F94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B083-8CEA-4706-9FAB-B3EF85B02C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F8F8-493C-4DEB-949C-F2239ACAC3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5C8D-B77D-4B4B-83F4-5958B29C70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2D6B-1DDC-4CA0-8B6A-6EECF247B5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DF4A-69CE-4210-8C3A-DE7A49B7FD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7CAF-86B7-429C-AF68-811FB96C9E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48A2-4EB0-4100-A1AB-5528C597D6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BF8E-7F73-4770-A3E2-6E693C5301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8035-2014-4C35-BA1E-EA797523B8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0F9B-47A7-4DB8-968C-E0F3467A73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0F45-2087-479C-9612-52EDF5E174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A68E-90A2-40F8-B9A2-945FFCC247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18C8-43A0-471D-A7DD-D57FA4088F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385F-D369-49EF-8755-DD4A7ED31A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8039-291F-4318-9036-EC21DE37F9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6DAA-DC79-41AB-BED8-430EC7364C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D76B-0A9D-4262-850F-341F74BCA2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53C5-C79B-458E-A368-36574A4AA9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47B2-A8A3-4DC7-8BB7-DF317BC108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B928-08B7-4930-83E9-2ECDB32B65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6677-9111-40D7-98B6-72D47CFE79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931F-CC11-4EC3-8DBD-4537C8A440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DFE0-83A7-4CC0-954B-223FF83B70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DE7E-5E4C-480B-82B3-BA5FA9E6B0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9FEF-000B-47A0-B590-70D37A2D5C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4E49-862B-4F28-9DDB-DC0BCE9C8D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548E-0736-467D-9473-29667457B8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D5C2-23FC-434E-AB90-023ED41601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5527-6B3D-4D44-9271-FC17C93DBB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B7C8-ECE7-4BA2-94E9-3634C542F8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5ACB-DA02-40F0-BE23-C75B43EA16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91A9-3CE7-4CEE-8A11-9E858E3096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86F0-F9BE-415C-9BD7-F1B4C6259A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66680" y="2637000"/>
            <a:ext cx="8726400" cy="250020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5122" descr=""/>
          <p:cNvPicPr/>
          <p:nvPr/>
        </p:nvPicPr>
        <p:blipFill>
          <a:blip r:embed="rId2"/>
          <a:stretch/>
        </p:blipFill>
        <p:spPr>
          <a:xfrm>
            <a:off x="3564000" y="907920"/>
            <a:ext cx="17622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图片 1" descr=""/>
          <p:cNvPicPr/>
          <p:nvPr/>
        </p:nvPicPr>
        <p:blipFill>
          <a:blip r:embed="rId1"/>
          <a:stretch/>
        </p:blipFill>
        <p:spPr>
          <a:xfrm>
            <a:off x="42840" y="861840"/>
            <a:ext cx="9056880" cy="513432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3"/>
          <a:stretch/>
        </p:blipFill>
        <p:spPr>
          <a:xfrm>
            <a:off x="250920" y="2133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图片 1" descr=""/>
          <p:cNvPicPr/>
          <p:nvPr/>
        </p:nvPicPr>
        <p:blipFill>
          <a:blip r:embed="rId1"/>
          <a:stretch/>
        </p:blipFill>
        <p:spPr>
          <a:xfrm>
            <a:off x="885960" y="2604960"/>
            <a:ext cx="7372080" cy="164808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" descr=""/>
          <p:cNvPicPr/>
          <p:nvPr/>
        </p:nvPicPr>
        <p:blipFill>
          <a:blip r:embed="rId2"/>
          <a:stretch/>
        </p:blipFill>
        <p:spPr>
          <a:xfrm>
            <a:off x="1187280" y="263700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图片 1" descr=""/>
          <p:cNvPicPr/>
          <p:nvPr/>
        </p:nvPicPr>
        <p:blipFill>
          <a:blip r:embed="rId1"/>
          <a:stretch/>
        </p:blipFill>
        <p:spPr>
          <a:xfrm>
            <a:off x="42840" y="744480"/>
            <a:ext cx="9056880" cy="56484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2"/>
          <a:stretch/>
        </p:blipFill>
        <p:spPr>
          <a:xfrm>
            <a:off x="324000" y="5157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" descr=""/>
          <p:cNvPicPr/>
          <p:nvPr/>
        </p:nvPicPr>
        <p:blipFill>
          <a:blip r:embed="rId3"/>
          <a:stretch/>
        </p:blipFill>
        <p:spPr>
          <a:xfrm>
            <a:off x="324000" y="5589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" descr=""/>
          <p:cNvPicPr/>
          <p:nvPr/>
        </p:nvPicPr>
        <p:blipFill>
          <a:blip r:embed="rId4"/>
          <a:stretch/>
        </p:blipFill>
        <p:spPr>
          <a:xfrm>
            <a:off x="324000" y="6021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9" name="图片 1" descr=""/>
          <p:cNvPicPr/>
          <p:nvPr/>
        </p:nvPicPr>
        <p:blipFill>
          <a:blip r:embed="rId1"/>
          <a:stretch/>
        </p:blipFill>
        <p:spPr>
          <a:xfrm>
            <a:off x="276120" y="1857240"/>
            <a:ext cx="8591760" cy="314352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" descr=""/>
          <p:cNvPicPr/>
          <p:nvPr/>
        </p:nvPicPr>
        <p:blipFill>
          <a:blip r:embed="rId3"/>
          <a:stretch/>
        </p:blipFill>
        <p:spPr>
          <a:xfrm>
            <a:off x="611280" y="2349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" descr=""/>
          <p:cNvPicPr/>
          <p:nvPr/>
        </p:nvPicPr>
        <p:blipFill>
          <a:blip r:embed="rId4"/>
          <a:stretch/>
        </p:blipFill>
        <p:spPr>
          <a:xfrm>
            <a:off x="611280" y="2781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" descr=""/>
          <p:cNvPicPr/>
          <p:nvPr/>
        </p:nvPicPr>
        <p:blipFill>
          <a:blip r:embed="rId5"/>
          <a:stretch/>
        </p:blipFill>
        <p:spPr>
          <a:xfrm>
            <a:off x="611280" y="32558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1" descr=""/>
          <p:cNvPicPr/>
          <p:nvPr/>
        </p:nvPicPr>
        <p:blipFill>
          <a:blip r:embed="rId6"/>
          <a:stretch/>
        </p:blipFill>
        <p:spPr>
          <a:xfrm>
            <a:off x="611280" y="3716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" descr=""/>
          <p:cNvPicPr/>
          <p:nvPr/>
        </p:nvPicPr>
        <p:blipFill>
          <a:blip r:embed="rId7"/>
          <a:stretch/>
        </p:blipFill>
        <p:spPr>
          <a:xfrm>
            <a:off x="611280" y="4149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1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图片 1" descr=""/>
          <p:cNvPicPr/>
          <p:nvPr/>
        </p:nvPicPr>
        <p:blipFill>
          <a:blip r:embed="rId1"/>
          <a:stretch/>
        </p:blipFill>
        <p:spPr>
          <a:xfrm>
            <a:off x="19080" y="752400"/>
            <a:ext cx="9105840" cy="3362400"/>
          </a:xfrm>
          <a:prstGeom prst="rect">
            <a:avLst/>
          </a:prstGeom>
          <a:ln w="0">
            <a:noFill/>
          </a:ln>
        </p:spPr>
      </p:pic>
      <p:pic>
        <p:nvPicPr>
          <p:cNvPr id="1168" name="图片 2" descr=""/>
          <p:cNvPicPr/>
          <p:nvPr/>
        </p:nvPicPr>
        <p:blipFill>
          <a:blip r:embed="rId2"/>
          <a:stretch/>
        </p:blipFill>
        <p:spPr>
          <a:xfrm>
            <a:off x="71280" y="4191120"/>
            <a:ext cx="89996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图片 1" descr=""/>
          <p:cNvPicPr/>
          <p:nvPr/>
        </p:nvPicPr>
        <p:blipFill>
          <a:blip r:embed="rId1"/>
          <a:stretch/>
        </p:blipFill>
        <p:spPr>
          <a:xfrm>
            <a:off x="95400" y="879480"/>
            <a:ext cx="9047160" cy="582912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" descr=""/>
          <p:cNvPicPr/>
          <p:nvPr/>
        </p:nvPicPr>
        <p:blipFill>
          <a:blip r:embed="rId3"/>
          <a:stretch/>
        </p:blipFill>
        <p:spPr>
          <a:xfrm>
            <a:off x="395280" y="4653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" descr=""/>
          <p:cNvPicPr/>
          <p:nvPr/>
        </p:nvPicPr>
        <p:blipFill>
          <a:blip r:embed="rId4"/>
          <a:stretch/>
        </p:blipFill>
        <p:spPr>
          <a:xfrm>
            <a:off x="395280" y="5877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3" name="图片 1" descr=""/>
          <p:cNvPicPr/>
          <p:nvPr/>
        </p:nvPicPr>
        <p:blipFill>
          <a:blip r:embed="rId1"/>
          <a:stretch/>
        </p:blipFill>
        <p:spPr>
          <a:xfrm>
            <a:off x="1262160" y="1347840"/>
            <a:ext cx="6619680" cy="416232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1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1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图片 1" descr=""/>
          <p:cNvPicPr/>
          <p:nvPr/>
        </p:nvPicPr>
        <p:blipFill>
          <a:blip r:embed="rId1"/>
          <a:stretch/>
        </p:blipFill>
        <p:spPr>
          <a:xfrm>
            <a:off x="14400" y="774720"/>
            <a:ext cx="9113760" cy="571356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1" descr=""/>
          <p:cNvPicPr/>
          <p:nvPr/>
        </p:nvPicPr>
        <p:blipFill>
          <a:blip r:embed="rId2"/>
          <a:stretch/>
        </p:blipFill>
        <p:spPr>
          <a:xfrm>
            <a:off x="395280" y="494172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" descr=""/>
          <p:cNvPicPr/>
          <p:nvPr/>
        </p:nvPicPr>
        <p:blipFill>
          <a:blip r:embed="rId3"/>
          <a:stretch/>
        </p:blipFill>
        <p:spPr>
          <a:xfrm>
            <a:off x="395280" y="573408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图片 1" descr=""/>
          <p:cNvPicPr/>
          <p:nvPr/>
        </p:nvPicPr>
        <p:blipFill>
          <a:blip r:embed="rId1"/>
          <a:stretch/>
        </p:blipFill>
        <p:spPr>
          <a:xfrm>
            <a:off x="395280" y="1271520"/>
            <a:ext cx="8247240" cy="1666800"/>
          </a:xfrm>
          <a:prstGeom prst="rect">
            <a:avLst/>
          </a:prstGeom>
          <a:ln w="0">
            <a:noFill/>
          </a:ln>
        </p:spPr>
      </p:pic>
      <p:pic>
        <p:nvPicPr>
          <p:cNvPr id="1180" name="图片 2" descr=""/>
          <p:cNvPicPr/>
          <p:nvPr/>
        </p:nvPicPr>
        <p:blipFill>
          <a:blip r:embed="rId2"/>
          <a:stretch/>
        </p:blipFill>
        <p:spPr>
          <a:xfrm>
            <a:off x="395280" y="3211560"/>
            <a:ext cx="8265960" cy="166680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1" descr=""/>
          <p:cNvPicPr/>
          <p:nvPr/>
        </p:nvPicPr>
        <p:blipFill>
          <a:blip r:embed="rId3"/>
          <a:stretch/>
        </p:blipFill>
        <p:spPr>
          <a:xfrm>
            <a:off x="684360" y="119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1" descr=""/>
          <p:cNvPicPr/>
          <p:nvPr/>
        </p:nvPicPr>
        <p:blipFill>
          <a:blip r:embed="rId4"/>
          <a:stretch/>
        </p:blipFill>
        <p:spPr>
          <a:xfrm>
            <a:off x="684360" y="2492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" descr=""/>
          <p:cNvPicPr/>
          <p:nvPr/>
        </p:nvPicPr>
        <p:blipFill>
          <a:blip r:embed="rId5"/>
          <a:stretch/>
        </p:blipFill>
        <p:spPr>
          <a:xfrm>
            <a:off x="755640" y="4076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图片 1" descr=""/>
          <p:cNvPicPr/>
          <p:nvPr/>
        </p:nvPicPr>
        <p:blipFill>
          <a:blip r:embed="rId1"/>
          <a:stretch/>
        </p:blipFill>
        <p:spPr>
          <a:xfrm>
            <a:off x="71280" y="831960"/>
            <a:ext cx="899964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01520" y="779400"/>
            <a:ext cx="3353040" cy="76212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5" descr=""/>
          <p:cNvPicPr/>
          <p:nvPr/>
        </p:nvPicPr>
        <p:blipFill>
          <a:blip r:embed="rId2"/>
          <a:stretch/>
        </p:blipFill>
        <p:spPr>
          <a:xfrm>
            <a:off x="95400" y="1541520"/>
            <a:ext cx="8953200" cy="52480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684360" y="63658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2484360" y="638028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4211640" y="6380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5940360" y="638028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7667640" y="638028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图片 1" descr=""/>
          <p:cNvPicPr/>
          <p:nvPr/>
        </p:nvPicPr>
        <p:blipFill>
          <a:blip r:embed="rId1"/>
          <a:stretch/>
        </p:blipFill>
        <p:spPr>
          <a:xfrm>
            <a:off x="19080" y="804960"/>
            <a:ext cx="9105840" cy="4579920"/>
          </a:xfrm>
          <a:prstGeom prst="rect">
            <a:avLst/>
          </a:prstGeom>
          <a:ln w="0">
            <a:noFill/>
          </a:ln>
        </p:spPr>
      </p:pic>
      <p:pic>
        <p:nvPicPr>
          <p:cNvPr id="1186" name="图片 2" descr=""/>
          <p:cNvPicPr/>
          <p:nvPr/>
        </p:nvPicPr>
        <p:blipFill>
          <a:blip r:embed="rId2"/>
          <a:stretch/>
        </p:blipFill>
        <p:spPr>
          <a:xfrm>
            <a:off x="93600" y="5384880"/>
            <a:ext cx="8847360" cy="78084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" descr=""/>
          <p:cNvPicPr/>
          <p:nvPr/>
        </p:nvPicPr>
        <p:blipFill>
          <a:blip r:embed="rId3"/>
          <a:stretch/>
        </p:blipFill>
        <p:spPr>
          <a:xfrm>
            <a:off x="684360" y="2838600"/>
            <a:ext cx="6551640" cy="3492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" descr=""/>
          <p:cNvPicPr/>
          <p:nvPr/>
        </p:nvPicPr>
        <p:blipFill>
          <a:blip r:embed="rId4"/>
          <a:stretch/>
        </p:blipFill>
        <p:spPr>
          <a:xfrm>
            <a:off x="611280" y="3687840"/>
            <a:ext cx="6551640" cy="3492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1" descr=""/>
          <p:cNvPicPr/>
          <p:nvPr/>
        </p:nvPicPr>
        <p:blipFill>
          <a:blip r:embed="rId5"/>
          <a:stretch/>
        </p:blipFill>
        <p:spPr>
          <a:xfrm>
            <a:off x="1187280" y="4522680"/>
            <a:ext cx="6551640" cy="34920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1" descr=""/>
          <p:cNvPicPr/>
          <p:nvPr/>
        </p:nvPicPr>
        <p:blipFill>
          <a:blip r:embed="rId6"/>
          <a:stretch/>
        </p:blipFill>
        <p:spPr>
          <a:xfrm>
            <a:off x="1258920" y="4941720"/>
            <a:ext cx="6551640" cy="34956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1" descr=""/>
          <p:cNvPicPr/>
          <p:nvPr/>
        </p:nvPicPr>
        <p:blipFill>
          <a:blip r:embed="rId7"/>
          <a:stretch/>
        </p:blipFill>
        <p:spPr>
          <a:xfrm>
            <a:off x="324000" y="5805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图片 1" descr=""/>
          <p:cNvPicPr/>
          <p:nvPr/>
        </p:nvPicPr>
        <p:blipFill>
          <a:blip r:embed="rId1"/>
          <a:stretch/>
        </p:blipFill>
        <p:spPr>
          <a:xfrm>
            <a:off x="905040" y="1447920"/>
            <a:ext cx="7333920" cy="396216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1" descr=""/>
          <p:cNvPicPr/>
          <p:nvPr/>
        </p:nvPicPr>
        <p:blipFill>
          <a:blip r:embed="rId2"/>
          <a:stretch/>
        </p:blipFill>
        <p:spPr>
          <a:xfrm>
            <a:off x="2556000" y="3298680"/>
            <a:ext cx="1079280" cy="34956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" descr=""/>
          <p:cNvPicPr/>
          <p:nvPr/>
        </p:nvPicPr>
        <p:blipFill>
          <a:blip r:embed="rId3"/>
          <a:stretch/>
        </p:blipFill>
        <p:spPr>
          <a:xfrm>
            <a:off x="2427120" y="3728880"/>
            <a:ext cx="1079640" cy="34956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" descr=""/>
          <p:cNvPicPr/>
          <p:nvPr/>
        </p:nvPicPr>
        <p:blipFill>
          <a:blip r:embed="rId4"/>
          <a:stretch/>
        </p:blipFill>
        <p:spPr>
          <a:xfrm>
            <a:off x="4356000" y="4149720"/>
            <a:ext cx="1079640" cy="34920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" descr=""/>
          <p:cNvPicPr/>
          <p:nvPr/>
        </p:nvPicPr>
        <p:blipFill>
          <a:blip r:embed="rId5"/>
          <a:stretch/>
        </p:blipFill>
        <p:spPr>
          <a:xfrm>
            <a:off x="4500720" y="4551480"/>
            <a:ext cx="647640" cy="34920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" descr=""/>
          <p:cNvPicPr/>
          <p:nvPr/>
        </p:nvPicPr>
        <p:blipFill>
          <a:blip r:embed="rId6"/>
          <a:stretch/>
        </p:blipFill>
        <p:spPr>
          <a:xfrm>
            <a:off x="4500720" y="4956120"/>
            <a:ext cx="1008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5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图片 1" descr=""/>
          <p:cNvPicPr/>
          <p:nvPr/>
        </p:nvPicPr>
        <p:blipFill>
          <a:blip r:embed="rId1"/>
          <a:stretch/>
        </p:blipFill>
        <p:spPr>
          <a:xfrm>
            <a:off x="52560" y="1890720"/>
            <a:ext cx="9037440" cy="307656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" descr=""/>
          <p:cNvPicPr/>
          <p:nvPr/>
        </p:nvPicPr>
        <p:blipFill>
          <a:blip r:embed="rId2"/>
          <a:stretch/>
        </p:blipFill>
        <p:spPr>
          <a:xfrm>
            <a:off x="5076720" y="2290680"/>
            <a:ext cx="1079640" cy="34920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" descr=""/>
          <p:cNvPicPr/>
          <p:nvPr/>
        </p:nvPicPr>
        <p:blipFill>
          <a:blip r:embed="rId3"/>
          <a:stretch/>
        </p:blipFill>
        <p:spPr>
          <a:xfrm>
            <a:off x="3059280" y="2722680"/>
            <a:ext cx="1079280" cy="34920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" descr=""/>
          <p:cNvPicPr/>
          <p:nvPr/>
        </p:nvPicPr>
        <p:blipFill>
          <a:blip r:embed="rId4"/>
          <a:stretch/>
        </p:blipFill>
        <p:spPr>
          <a:xfrm>
            <a:off x="1979640" y="3127320"/>
            <a:ext cx="1079640" cy="34920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1" descr=""/>
          <p:cNvPicPr/>
          <p:nvPr/>
        </p:nvPicPr>
        <p:blipFill>
          <a:blip r:embed="rId5"/>
          <a:stretch/>
        </p:blipFill>
        <p:spPr>
          <a:xfrm>
            <a:off x="3132000" y="3543480"/>
            <a:ext cx="1079640" cy="3492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" descr=""/>
          <p:cNvPicPr/>
          <p:nvPr/>
        </p:nvPicPr>
        <p:blipFill>
          <a:blip r:embed="rId6"/>
          <a:stretch/>
        </p:blipFill>
        <p:spPr>
          <a:xfrm>
            <a:off x="1908000" y="3962520"/>
            <a:ext cx="1079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图片 1" descr=""/>
          <p:cNvPicPr/>
          <p:nvPr/>
        </p:nvPicPr>
        <p:blipFill>
          <a:blip r:embed="rId1"/>
          <a:stretch/>
        </p:blipFill>
        <p:spPr>
          <a:xfrm>
            <a:off x="695160" y="803160"/>
            <a:ext cx="7753680" cy="582948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1" descr=""/>
          <p:cNvPicPr/>
          <p:nvPr/>
        </p:nvPicPr>
        <p:blipFill>
          <a:blip r:embed="rId2"/>
          <a:stretch/>
        </p:blipFill>
        <p:spPr>
          <a:xfrm>
            <a:off x="3203640" y="2060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1" descr=""/>
          <p:cNvPicPr/>
          <p:nvPr/>
        </p:nvPicPr>
        <p:blipFill>
          <a:blip r:embed="rId3"/>
          <a:stretch/>
        </p:blipFill>
        <p:spPr>
          <a:xfrm>
            <a:off x="1692360" y="291132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" descr=""/>
          <p:cNvPicPr/>
          <p:nvPr/>
        </p:nvPicPr>
        <p:blipFill>
          <a:blip r:embed="rId4"/>
          <a:stretch/>
        </p:blipFill>
        <p:spPr>
          <a:xfrm>
            <a:off x="1763640" y="41497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1" descr=""/>
          <p:cNvPicPr/>
          <p:nvPr/>
        </p:nvPicPr>
        <p:blipFill>
          <a:blip r:embed="rId5"/>
          <a:stretch/>
        </p:blipFill>
        <p:spPr>
          <a:xfrm>
            <a:off x="1763640" y="50133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1" descr=""/>
          <p:cNvPicPr/>
          <p:nvPr/>
        </p:nvPicPr>
        <p:blipFill>
          <a:blip r:embed="rId6"/>
          <a:stretch/>
        </p:blipFill>
        <p:spPr>
          <a:xfrm>
            <a:off x="3708360" y="581976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9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图片 1" descr=""/>
          <p:cNvPicPr/>
          <p:nvPr/>
        </p:nvPicPr>
        <p:blipFill>
          <a:blip r:embed="rId1"/>
          <a:stretch/>
        </p:blipFill>
        <p:spPr>
          <a:xfrm>
            <a:off x="657360" y="1700280"/>
            <a:ext cx="78292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图片 1" descr=""/>
          <p:cNvPicPr/>
          <p:nvPr/>
        </p:nvPicPr>
        <p:blipFill>
          <a:blip r:embed="rId1"/>
          <a:stretch/>
        </p:blipFill>
        <p:spPr>
          <a:xfrm>
            <a:off x="54000" y="550800"/>
            <a:ext cx="9037440" cy="623880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" descr=""/>
          <p:cNvPicPr/>
          <p:nvPr/>
        </p:nvPicPr>
        <p:blipFill>
          <a:blip r:embed="rId2"/>
          <a:stretch/>
        </p:blipFill>
        <p:spPr>
          <a:xfrm>
            <a:off x="755640" y="514044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1" descr=""/>
          <p:cNvPicPr/>
          <p:nvPr/>
        </p:nvPicPr>
        <p:blipFill>
          <a:blip r:embed="rId3"/>
          <a:stretch/>
        </p:blipFill>
        <p:spPr>
          <a:xfrm>
            <a:off x="3851280" y="511488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1" descr=""/>
          <p:cNvPicPr/>
          <p:nvPr/>
        </p:nvPicPr>
        <p:blipFill>
          <a:blip r:embed="rId4"/>
          <a:stretch/>
        </p:blipFill>
        <p:spPr>
          <a:xfrm>
            <a:off x="6732720" y="5140440"/>
            <a:ext cx="1439640" cy="3492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1" descr=""/>
          <p:cNvPicPr/>
          <p:nvPr/>
        </p:nvPicPr>
        <p:blipFill>
          <a:blip r:embed="rId5"/>
          <a:stretch/>
        </p:blipFill>
        <p:spPr>
          <a:xfrm>
            <a:off x="755640" y="554508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" descr=""/>
          <p:cNvPicPr/>
          <p:nvPr/>
        </p:nvPicPr>
        <p:blipFill>
          <a:blip r:embed="rId6"/>
          <a:stretch/>
        </p:blipFill>
        <p:spPr>
          <a:xfrm>
            <a:off x="3851280" y="553248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1" descr=""/>
          <p:cNvPicPr/>
          <p:nvPr/>
        </p:nvPicPr>
        <p:blipFill>
          <a:blip r:embed="rId7"/>
          <a:stretch/>
        </p:blipFill>
        <p:spPr>
          <a:xfrm>
            <a:off x="6732720" y="5570640"/>
            <a:ext cx="1439640" cy="34920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1" descr=""/>
          <p:cNvPicPr/>
          <p:nvPr/>
        </p:nvPicPr>
        <p:blipFill>
          <a:blip r:embed="rId8"/>
          <a:stretch/>
        </p:blipFill>
        <p:spPr>
          <a:xfrm>
            <a:off x="755640" y="598968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" descr=""/>
          <p:cNvPicPr/>
          <p:nvPr/>
        </p:nvPicPr>
        <p:blipFill>
          <a:blip r:embed="rId9"/>
          <a:stretch/>
        </p:blipFill>
        <p:spPr>
          <a:xfrm>
            <a:off x="3851280" y="595152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1" descr=""/>
          <p:cNvPicPr/>
          <p:nvPr/>
        </p:nvPicPr>
        <p:blipFill>
          <a:blip r:embed="rId10"/>
          <a:stretch/>
        </p:blipFill>
        <p:spPr>
          <a:xfrm>
            <a:off x="6732720" y="5977080"/>
            <a:ext cx="1439640" cy="34920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" descr=""/>
          <p:cNvPicPr/>
          <p:nvPr/>
        </p:nvPicPr>
        <p:blipFill>
          <a:blip r:embed="rId11"/>
          <a:stretch/>
        </p:blipFill>
        <p:spPr>
          <a:xfrm>
            <a:off x="684360" y="6407280"/>
            <a:ext cx="1439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1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1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1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6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图片 1" descr=""/>
          <p:cNvPicPr/>
          <p:nvPr/>
        </p:nvPicPr>
        <p:blipFill>
          <a:blip r:embed="rId1"/>
          <a:stretch/>
        </p:blipFill>
        <p:spPr>
          <a:xfrm>
            <a:off x="81000" y="1523880"/>
            <a:ext cx="8980560" cy="381024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1" descr=""/>
          <p:cNvPicPr/>
          <p:nvPr/>
        </p:nvPicPr>
        <p:blipFill>
          <a:blip r:embed="rId2"/>
          <a:stretch/>
        </p:blipFill>
        <p:spPr>
          <a:xfrm>
            <a:off x="85680" y="3616200"/>
            <a:ext cx="8964720" cy="34920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1" descr=""/>
          <p:cNvPicPr/>
          <p:nvPr/>
        </p:nvPicPr>
        <p:blipFill>
          <a:blip r:embed="rId3"/>
          <a:stretch/>
        </p:blipFill>
        <p:spPr>
          <a:xfrm>
            <a:off x="85680" y="4048200"/>
            <a:ext cx="8964720" cy="34920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1" descr=""/>
          <p:cNvPicPr/>
          <p:nvPr/>
        </p:nvPicPr>
        <p:blipFill>
          <a:blip r:embed="rId4"/>
          <a:stretch/>
        </p:blipFill>
        <p:spPr>
          <a:xfrm>
            <a:off x="108000" y="4451400"/>
            <a:ext cx="8964720" cy="34920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1" descr=""/>
          <p:cNvPicPr/>
          <p:nvPr/>
        </p:nvPicPr>
        <p:blipFill>
          <a:blip r:embed="rId5"/>
          <a:stretch/>
        </p:blipFill>
        <p:spPr>
          <a:xfrm>
            <a:off x="108000" y="4883040"/>
            <a:ext cx="896472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8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8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95400" y="1909800"/>
            <a:ext cx="8953200" cy="30384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395280" y="2781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468360" y="3645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395280" y="4149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468360" y="4508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38160" y="1886040"/>
            <a:ext cx="9067680" cy="30859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395280" y="27464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395280" y="3645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176040" y="1452600"/>
            <a:ext cx="8790120" cy="39528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4"/>
          <a:stretch/>
        </p:blipFill>
        <p:spPr>
          <a:xfrm>
            <a:off x="539640" y="450864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95400" y="1042920"/>
            <a:ext cx="8953200" cy="477216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3"/>
          <a:stretch/>
        </p:blipFill>
        <p:spPr>
          <a:xfrm>
            <a:off x="324000" y="23335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4"/>
          <a:stretch/>
        </p:blipFill>
        <p:spPr>
          <a:xfrm>
            <a:off x="324000" y="3213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5"/>
          <a:stretch/>
        </p:blipFill>
        <p:spPr>
          <a:xfrm>
            <a:off x="324000" y="4149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6"/>
          <a:stretch/>
        </p:blipFill>
        <p:spPr>
          <a:xfrm>
            <a:off x="324000" y="5013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2" descr=""/>
          <p:cNvPicPr/>
          <p:nvPr/>
        </p:nvPicPr>
        <p:blipFill>
          <a:blip r:embed="rId1"/>
          <a:stretch/>
        </p:blipFill>
        <p:spPr>
          <a:xfrm>
            <a:off x="-3240" y="900000"/>
            <a:ext cx="9151920" cy="5058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2"/>
          <a:stretch/>
        </p:blipFill>
        <p:spPr>
          <a:xfrm>
            <a:off x="324000" y="20462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3"/>
          <a:stretch/>
        </p:blipFill>
        <p:spPr>
          <a:xfrm>
            <a:off x="395280" y="33130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4"/>
          <a:stretch/>
        </p:blipFill>
        <p:spPr>
          <a:xfrm>
            <a:off x="395280" y="4653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图片 1" descr=""/>
          <p:cNvPicPr/>
          <p:nvPr/>
        </p:nvPicPr>
        <p:blipFill>
          <a:blip r:embed="rId1"/>
          <a:stretch/>
        </p:blipFill>
        <p:spPr>
          <a:xfrm>
            <a:off x="47520" y="1057320"/>
            <a:ext cx="9048960" cy="474336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3"/>
          <a:stretch/>
        </p:blipFill>
        <p:spPr>
          <a:xfrm>
            <a:off x="250920" y="2781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4"/>
          <a:stretch/>
        </p:blipFill>
        <p:spPr>
          <a:xfrm>
            <a:off x="250920" y="4508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图片 1" descr=""/>
          <p:cNvPicPr/>
          <p:nvPr/>
        </p:nvPicPr>
        <p:blipFill>
          <a:blip r:embed="rId1"/>
          <a:stretch/>
        </p:blipFill>
        <p:spPr>
          <a:xfrm>
            <a:off x="33480" y="776160"/>
            <a:ext cx="9075600" cy="5305680"/>
          </a:xfrm>
          <a:prstGeom prst="rect">
            <a:avLst/>
          </a:prstGeom>
          <a:ln w="0">
            <a:noFill/>
          </a:ln>
        </p:spPr>
      </p:pic>
      <p:pic>
        <p:nvPicPr>
          <p:cNvPr id="1143" name="图片 2" descr=""/>
          <p:cNvPicPr/>
          <p:nvPr/>
        </p:nvPicPr>
        <p:blipFill>
          <a:blip r:embed="rId2"/>
          <a:stretch/>
        </p:blipFill>
        <p:spPr>
          <a:xfrm>
            <a:off x="1398600" y="6081840"/>
            <a:ext cx="6532560" cy="46656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3"/>
          <a:stretch/>
        </p:blipFill>
        <p:spPr>
          <a:xfrm>
            <a:off x="324000" y="7938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4"/>
          <a:stretch/>
        </p:blipFill>
        <p:spPr>
          <a:xfrm>
            <a:off x="395280" y="2133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5"/>
          <a:stretch/>
        </p:blipFill>
        <p:spPr>
          <a:xfrm>
            <a:off x="395280" y="386064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6"/>
          <a:stretch/>
        </p:blipFill>
        <p:spPr>
          <a:xfrm>
            <a:off x="395280" y="5589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8:46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